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7CA0-8DF8-4143-82F5-B730025F1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9018-1983-441F-9DD6-9C80FF22F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3161-6231-4B00-8DA3-D4E2AF6DE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C755-D388-4599-8536-25FEF40DD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B36-17EF-418F-A21C-B0A4E44C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7A1-FF7B-46A9-BDF6-E3E4C7B3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376-3A14-4EDB-A4AC-7A5D0AF4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409-CFCD-45EA-94E6-7FC226CD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6CA-39A8-4635-85C9-D7B51C30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04C-DD48-480C-BABD-6D2E7BD8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C5B-FAB5-49E8-B15E-E172918F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95A-0610-433C-91B9-FEB61E83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F9A-1B33-427D-8315-C2EF1992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130-D5F9-4364-B213-DB5D01E4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E37-E92B-4711-8289-F5349DE5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F76-7954-419A-B653-8A3BF2D4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DE5B-2F7E-48DF-B4FB-4ADB717FA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image" Target="../media/image13.png"/><Relationship Id="rId7" Type="http://schemas.openxmlformats.org/officeDocument/2006/relationships/image" Target="../media/image15.jpeg"/><Relationship Id="rId8" Type="http://schemas.openxmlformats.org/officeDocument/2006/relationships/image" Target="../media/image12.pn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45720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 Gardener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dom has a thousand charms to show, That slaves, however contented, never kn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33530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4495680" y="0"/>
            <a:ext cx="381024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Isabel (6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52280" y="2590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152280" y="25909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Isabel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152280" y="2743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7162920" y="1905120"/>
            <a:ext cx="60948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152280" y="3657600"/>
            <a:ext cx="1600200" cy="77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26, 1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hod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yal Gazette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48006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  (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9"/>
          <p:cNvSpPr/>
          <p:nvPr/>
        </p:nvSpPr>
        <p:spPr>
          <a:xfrm>
            <a:off x="-152280" y="5486400"/>
            <a:ext cx="2133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orge Carver   Emmet    Phillis Weatl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 was all dream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 hours 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z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et me at the prison n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 hours ago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nts to be fre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esterday at 5:45  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3"/>
          <p:cNvSpPr/>
          <p:nvPr/>
        </p:nvSpPr>
        <p:spPr>
          <a:xfrm>
            <a:off x="2590920" y="44956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ts time again when the spirits go away, and fade into the sun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ursda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Rest In Peace Miss Mary Finch..Monday, May 27,177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st Mond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bel Garden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iss you mam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 weeks ag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9" descr="http://www.fullissue.com/wp-content/uploads/Sally-Hemings.jpg"/>
          <p:cNvPicPr/>
          <p:nvPr/>
        </p:nvPicPr>
        <p:blipFill>
          <a:blip r:embed="rId1"/>
          <a:stretch/>
        </p:blipFill>
        <p:spPr>
          <a:xfrm>
            <a:off x="228600" y="457200"/>
            <a:ext cx="1463760" cy="2009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9" descr="http://www.fullissue.com/wp-content/uploads/Sally-Hemings.jpg"/>
          <p:cNvPicPr/>
          <p:nvPr/>
        </p:nvPicPr>
        <p:blipFill>
          <a:blip r:embed="rId2"/>
          <a:stretch/>
        </p:blipFill>
        <p:spPr>
          <a:xfrm>
            <a:off x="2133720" y="2438280"/>
            <a:ext cx="434880" cy="533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9" descr="http://www.fullissue.com/wp-content/uploads/Sally-Hemings.jpg"/>
          <p:cNvPicPr/>
          <p:nvPr/>
        </p:nvPicPr>
        <p:blipFill>
          <a:blip r:embed="rId3"/>
          <a:stretch/>
        </p:blipFill>
        <p:spPr>
          <a:xfrm>
            <a:off x="2133720" y="3809880"/>
            <a:ext cx="434880" cy="533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9" descr="http://www.fullissue.com/wp-content/uploads/Sally-Hemings.jpg"/>
          <p:cNvPicPr/>
          <p:nvPr/>
        </p:nvPicPr>
        <p:blipFill>
          <a:blip r:embed="rId4"/>
          <a:stretch/>
        </p:blipFill>
        <p:spPr>
          <a:xfrm>
            <a:off x="2133720" y="4495680"/>
            <a:ext cx="434880" cy="53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9" descr="http://www.fullissue.com/wp-content/uploads/Sally-Hemings.jpg"/>
          <p:cNvPicPr/>
          <p:nvPr/>
        </p:nvPicPr>
        <p:blipFill>
          <a:blip r:embed="rId5"/>
          <a:stretch/>
        </p:blipFill>
        <p:spPr>
          <a:xfrm>
            <a:off x="2133720" y="5181480"/>
            <a:ext cx="434880" cy="533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9" descr="http://www.fullissue.com/wp-content/uploads/Sally-Hemings.jpg"/>
          <p:cNvPicPr/>
          <p:nvPr/>
        </p:nvPicPr>
        <p:blipFill>
          <a:blip r:embed="rId6"/>
          <a:stretch/>
        </p:blipFill>
        <p:spPr>
          <a:xfrm>
            <a:off x="2133720" y="5867280"/>
            <a:ext cx="43488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9" descr=""/>
          <p:cNvPicPr/>
          <p:nvPr/>
        </p:nvPicPr>
        <p:blipFill>
          <a:blip r:embed="rId7"/>
          <a:stretch/>
        </p:blipFill>
        <p:spPr>
          <a:xfrm>
            <a:off x="152280" y="4952880"/>
            <a:ext cx="46692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0" descr=""/>
          <p:cNvPicPr/>
          <p:nvPr/>
        </p:nvPicPr>
        <p:blipFill>
          <a:blip r:embed="rId8"/>
          <a:stretch/>
        </p:blipFill>
        <p:spPr>
          <a:xfrm>
            <a:off x="685800" y="4952880"/>
            <a:ext cx="474840" cy="533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 flipV="1">
            <a:off x="8763120" y="609480"/>
            <a:ext cx="380880" cy="4608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1" descr="http://www.gibbsmagazine.com/pwheatley.jpg"/>
          <p:cNvPicPr/>
          <p:nvPr/>
        </p:nvPicPr>
        <p:blipFill>
          <a:blip r:embed="rId9"/>
          <a:stretch/>
        </p:blipFill>
        <p:spPr>
          <a:xfrm>
            <a:off x="1219320" y="4952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7" descr=""/>
          <p:cNvPicPr/>
          <p:nvPr/>
        </p:nvPicPr>
        <p:blipFill>
          <a:blip r:embed="rId10"/>
          <a:stretch/>
        </p:blipFill>
        <p:spPr>
          <a:xfrm>
            <a:off x="152280" y="5791320"/>
            <a:ext cx="457200" cy="538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7"/>
          <p:cNvSpPr/>
          <p:nvPr/>
        </p:nvSpPr>
        <p:spPr>
          <a:xfrm>
            <a:off x="0" y="6324480"/>
            <a:ext cx="1981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dy Seymour  Washington     Curz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8" descr=""/>
          <p:cNvPicPr/>
          <p:nvPr/>
        </p:nvPicPr>
        <p:blipFill>
          <a:blip r:embed="rId11"/>
          <a:stretch/>
        </p:blipFill>
        <p:spPr>
          <a:xfrm>
            <a:off x="685800" y="5791320"/>
            <a:ext cx="457200" cy="538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9" descr=""/>
          <p:cNvPicPr/>
          <p:nvPr/>
        </p:nvPicPr>
        <p:blipFill>
          <a:blip r:embed="rId12"/>
          <a:stretch/>
        </p:blipFill>
        <p:spPr>
          <a:xfrm>
            <a:off x="1219320" y="5791320"/>
            <a:ext cx="50472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9" descr=""/>
          <p:cNvPicPr/>
          <p:nvPr/>
        </p:nvPicPr>
        <p:blipFill>
          <a:blip r:embed="rId13"/>
          <a:stretch/>
        </p:blipFill>
        <p:spPr>
          <a:xfrm>
            <a:off x="2133720" y="31240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1430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bel Garden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reedom has a thousand charms to show, That slaves, however contented, never kn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143000" y="0"/>
            <a:ext cx="52578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 Gard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152280" y="2590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152280" y="259092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Isabel a messag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52280" y="274320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152280" y="2743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152280" y="358128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26, 1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hod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1"/>
          <p:cNvSpPr/>
          <p:nvPr/>
        </p:nvSpPr>
        <p:spPr>
          <a:xfrm>
            <a:off x="152280" y="46483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152280" y="46483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2133720" y="190512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uly 26, 1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oyal Gazette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Method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aking care of Ruth, Cooking, Cleaning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Exploring, Reading, Cooking, Clea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Ella Fitzgerald, Biggie Sm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Black Beauty, Remember the Tit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osby Sh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unning a Thousand Miles for Free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762120" y="5486400"/>
            <a:ext cx="114300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Lady Seymour’s Gar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yester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0"/>
          <p:cNvSpPr/>
          <p:nvPr/>
        </p:nvSpPr>
        <p:spPr>
          <a:xfrm>
            <a:off x="838080" y="6172200"/>
            <a:ext cx="99072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ist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7 Broadway Street, Royal Gazette, New York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12) 777-53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9" descr="http://www.fullissue.com/wp-content/uploads/Sally-Hemings.jpg"/>
          <p:cNvPicPr/>
          <p:nvPr/>
        </p:nvPicPr>
        <p:blipFill>
          <a:blip r:embed="rId1"/>
          <a:stretch/>
        </p:blipFill>
        <p:spPr>
          <a:xfrm>
            <a:off x="228600" y="457200"/>
            <a:ext cx="1463760" cy="2009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Isabel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158760" y="4191120"/>
            <a:ext cx="132840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yal Gazette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1" descr=""/>
          <p:cNvPicPr/>
          <p:nvPr/>
        </p:nvPicPr>
        <p:blipFill>
          <a:blip r:embed="rId2"/>
          <a:stretch/>
        </p:blipFill>
        <p:spPr>
          <a:xfrm>
            <a:off x="152280" y="5334120"/>
            <a:ext cx="635040" cy="590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2" descr=""/>
          <p:cNvPicPr/>
          <p:nvPr/>
        </p:nvPicPr>
        <p:blipFill>
          <a:blip r:embed="rId3"/>
          <a:stretch/>
        </p:blipFill>
        <p:spPr>
          <a:xfrm>
            <a:off x="152280" y="601992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57200" y="4952880"/>
            <a:ext cx="304812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219320" y="0"/>
            <a:ext cx="5181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abel Gard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Isabe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6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abel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685800" y="6172200"/>
            <a:ext cx="13716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dy Seymour’s Gard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st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abel Gardene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Freedom has a thousand charms to show, That slaves, however contented, never know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1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6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1193760" cy="895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7" descr=""/>
          <p:cNvPicPr/>
          <p:nvPr/>
        </p:nvPicPr>
        <p:blipFill>
          <a:blip r:embed="rId3"/>
          <a:stretch/>
        </p:blipFill>
        <p:spPr>
          <a:xfrm>
            <a:off x="2133720" y="5029200"/>
            <a:ext cx="981000" cy="123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9" descr="http://www.fullissue.com/wp-content/uploads/Sally-Hemings.jpg"/>
          <p:cNvPicPr/>
          <p:nvPr/>
        </p:nvPicPr>
        <p:blipFill>
          <a:blip r:embed="rId4"/>
          <a:stretch/>
        </p:blipFill>
        <p:spPr>
          <a:xfrm>
            <a:off x="3657600" y="4952880"/>
            <a:ext cx="990720" cy="1360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9" descr="http://www.fullissue.com/wp-content/uploads/Sally-Hemings.jpg"/>
          <p:cNvPicPr/>
          <p:nvPr/>
        </p:nvPicPr>
        <p:blipFill>
          <a:blip r:embed="rId5"/>
          <a:stretch/>
        </p:blipFill>
        <p:spPr>
          <a:xfrm>
            <a:off x="152280" y="533520"/>
            <a:ext cx="609840" cy="836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7" descr=""/>
          <p:cNvPicPr/>
          <p:nvPr/>
        </p:nvPicPr>
        <p:blipFill>
          <a:blip r:embed="rId6"/>
          <a:stretch/>
        </p:blipFill>
        <p:spPr>
          <a:xfrm>
            <a:off x="2209680" y="1828800"/>
            <a:ext cx="981360" cy="1239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9" descr="http://www.fullissue.com/wp-content/uploads/Sally-Hemings.jpg"/>
          <p:cNvPicPr/>
          <p:nvPr/>
        </p:nvPicPr>
        <p:blipFill>
          <a:blip r:embed="rId7"/>
          <a:stretch/>
        </p:blipFill>
        <p:spPr>
          <a:xfrm>
            <a:off x="914400" y="1828800"/>
            <a:ext cx="990720" cy="1190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6" descr=""/>
          <p:cNvPicPr/>
          <p:nvPr/>
        </p:nvPicPr>
        <p:blipFill>
          <a:blip r:embed="rId8"/>
          <a:stretch/>
        </p:blipFill>
        <p:spPr>
          <a:xfrm>
            <a:off x="4952880" y="1905120"/>
            <a:ext cx="1193760" cy="971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1" descr="http://seacoastnh.com/tobiaslear/photos/12.jpeg"/>
          <p:cNvPicPr/>
          <p:nvPr/>
        </p:nvPicPr>
        <p:blipFill>
          <a:blip r:embed="rId9"/>
          <a:stretch/>
        </p:blipFill>
        <p:spPr>
          <a:xfrm>
            <a:off x="3581280" y="1828800"/>
            <a:ext cx="1001880" cy="1236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3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1246320" cy="91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4" descr=""/>
          <p:cNvPicPr/>
          <p:nvPr/>
        </p:nvPicPr>
        <p:blipFill>
          <a:blip r:embed="rId11"/>
          <a:stretch/>
        </p:blipFill>
        <p:spPr>
          <a:xfrm>
            <a:off x="914400" y="3429000"/>
            <a:ext cx="121932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5T03:40:48Z</dcterms:modified>
  <cp:revision>39</cp:revision>
  <dc:subject/>
  <dc:title>Profile</dc:title>
</cp:coreProperties>
</file>